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D24-E13A-4B1B-862D-EF33FC0A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A02-97A8-4C0C-9C1D-FB9DF530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8C4-EC36-4D17-864C-483DA2A7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DA4-3CF4-4379-89AC-5F9D2CBB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74743-FAC8-4DDD-98F3-30CB7669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6145-82D4-4998-9D73-B483300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7F090-B586-401D-8047-AD6104A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A8A19-0D5D-42DD-BE61-A559371D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3845-FBE2-4F40-9BBC-E8D554D4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9FFE-1F95-4433-AE95-BD2E2C92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1679-89E5-4B62-AB18-4B45FC50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CDD-067E-4767-B9AC-30800F97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87F6E-C54C-42B5-A8D6-3B69267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0818A-E3E2-4D5F-A2A6-65923ED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54DC-85FB-4B21-9075-502AEE70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91E86-D034-478D-9F5C-5EADD03C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D82A6-4A3C-4C3A-AB1B-65134165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338-EF08-4712-A410-F05B783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4BC-DC71-435E-945A-ECF18AD0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E35-52F1-4471-92E4-D588245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B3E-5878-499B-8D8E-FEEEEFCD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648-A4AE-48D8-ABE4-217201FE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303-0EFD-4C3A-B4B1-6DDD7C2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A1A-0A13-4270-8019-C2C518D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ABE-E6A3-4079-9873-E8A75A0B3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5C8-9BDF-4D2D-BF34-7CFAEE9740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50states.com/colorado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99081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594360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f11a"/>
                </a:solidFill>
                <a:latin typeface="Cooper Black"/>
              </a:rPr>
              <a:t>Jimmy, Period 4 Monday, September 20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762120"/>
            <a:ext cx="6248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lorad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0010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5334120"/>
            <a:ext cx="4267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lorado so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10/7/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www.50states.com/color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State name:  Col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Capital:  Den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Entered union: August 1, 187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Motto:  Nil Sine Num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Nick name:  Centenni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Flower:  Rocky mountain colu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Bird:  Lart Bun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Song:  Where the columbines 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Meaning behind name:  From the spanish word “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Interesting facts about Color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Very ro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The state gem is the Aquama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The Aquamarine is made of a mineral called Rhodo Chr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Colorado: Map and State Flag"/>
          <p:cNvPicPr/>
          <p:nvPr/>
        </p:nvPicPr>
        <p:blipFill>
          <a:blip r:embed="rId1"/>
          <a:srcRect l="0" t="38094" r="0" b="0"/>
          <a:stretch/>
        </p:blipFill>
        <p:spPr>
          <a:xfrm>
            <a:off x="228600" y="3505320"/>
            <a:ext cx="3429000" cy="286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Colorado: Map and State Flag"/>
          <p:cNvPicPr/>
          <p:nvPr/>
        </p:nvPicPr>
        <p:blipFill>
          <a:blip r:embed="rId2"/>
          <a:srcRect l="0" t="0" r="0" b="63881"/>
          <a:stretch/>
        </p:blipFill>
        <p:spPr>
          <a:xfrm>
            <a:off x="2438280" y="228600"/>
            <a:ext cx="6553440" cy="33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65720" y="425916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4572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s Guide to US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Colora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9/22/2010, http://bensguide.gpo.gov/3-5/state/colorado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All images Copyright © 1997 - 2000 WriteLine. All Rights Reserved. Denver Skyline"/>
          <p:cNvPicPr/>
          <p:nvPr/>
        </p:nvPicPr>
        <p:blipFill>
          <a:blip r:embed="rId1"/>
          <a:stretch/>
        </p:blipFill>
        <p:spPr>
          <a:xfrm>
            <a:off x="0" y="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441972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enver Colorad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9/23/2010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postcardsfrom.com/t1/990816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ity of Denver:  A beautiful array of sky scrap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33:00Z</dcterms:created>
  <dc:creator>install</dc:creator>
  <dc:description/>
  <dc:language>en-US</dc:language>
  <cp:lastModifiedBy>install</cp:lastModifiedBy>
  <dcterms:modified xsi:type="dcterms:W3CDTF">2010-10-14T15:23:36Z</dcterms:modified>
  <cp:revision>12</cp:revision>
  <dc:subject/>
  <dc:title>Slide 1</dc:title>
</cp:coreProperties>
</file>